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BBD-A791-462E-A801-B80FC166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925-BB7A-4011-817A-53552916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5F2-999C-48CF-9F61-5131675D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C45-550A-4449-8C61-543C95C3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D81-925C-4AF4-82F6-872BE97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E47-CAC4-4B3C-BE63-0AC477F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75A-0981-438D-8759-1EC64BD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0E3-E438-4BDA-AF20-644AC93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1CC-DC10-4F47-88AE-0B28922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852-9404-4757-B2ED-3345EF7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CC6-FB2A-4650-82C4-9B3AE0D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761-FB52-4275-99A9-CF4E852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4FFF-5D7A-43E7-BFDE-24498303F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  Clase 6nh 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3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el Paso 1 de la Unidad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español __________ a las doce y cuarenta. 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a las ocho. 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 ir a la fiesta? 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_ mirar el partido. (PREFER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___________ a casa a las cuatro. (V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 __________ a trabajar. 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781200" y="1752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876840" y="129528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149220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244880" cy="146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7010280" y="304920"/>
            <a:ext cx="174960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228600" y="1096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bé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bé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64680" y="3352680"/>
            <a:ext cx="2076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í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lanz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31200" y="312408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jar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024680" y="6019920"/>
            <a:ext cx="21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696080" y="48006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556236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5562360" y="57150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812400" y="457200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á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963600" y="5638680"/>
            <a:ext cx="176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479880" y="5410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984320" y="5486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g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7"/>
          <a:stretch/>
        </p:blipFill>
        <p:spPr>
          <a:xfrm>
            <a:off x="1905120" y="6058080"/>
            <a:ext cx="914400" cy="723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4"/>
          <p:cNvSpPr/>
          <p:nvPr/>
        </p:nvSpPr>
        <p:spPr>
          <a:xfrm>
            <a:off x="79560" y="6110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532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e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382320" y="2362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cor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886200" y="304920"/>
            <a:ext cx="13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atra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93576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lan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12000" y="47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ba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413680" y="38098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Jonr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822400" y="556272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 basquetbol / E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1522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cha de basque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H="1">
            <a:off x="6553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9625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33412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295280" y="5791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64008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ro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33560" y="426672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ampe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uartos / Tie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2736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667160" cy="27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3124080" y="7621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68580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Drib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4290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Pas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477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Ences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066680" y="6095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Ti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5627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 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55308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03:58Z</dcterms:created>
  <dc:creator>Helen Zumaeta</dc:creator>
  <dc:description/>
  <dc:language>en-US</dc:language>
  <cp:lastModifiedBy>Helen Zumaeta</cp:lastModifiedBy>
  <dcterms:modified xsi:type="dcterms:W3CDTF">2013-02-11T20:51:35Z</dcterms:modified>
  <cp:revision>10</cp:revision>
  <dc:subject/>
  <dc:title>Me llamo __________ Clase 6nh/il La fecha es el 5 de mayo del 2011</dc:title>
</cp:coreProperties>
</file>